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4.jpeg" ContentType="image/jpeg"/>
  <Override PartName="/ppt/media/image22.gif" ContentType="image/gif"/>
  <Override PartName="/ppt/media/image25.png" ContentType="image/png"/>
  <Override PartName="/ppt/media/image24.png" ContentType="image/png"/>
  <Override PartName="/ppt/media/image20.gif" ContentType="image/gif"/>
  <Override PartName="/ppt/media/image21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3.jpeg" ContentType="image/jpeg"/>
  <Override PartName="/ppt/media/image2.jpeg" ContentType="image/jpeg"/>
  <Override PartName="/ppt/media/image3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F14B-B93E-42B8-A41B-912D58036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420A-04CC-49B6-9874-AA09C3590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99BE19-0D2B-4809-8CC9-668DDBE33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2DAB1D-110B-4130-8D9B-9C0E0F8A1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4880FD-6907-4E96-9C1E-4CE910BC0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E8D493-DFD0-403B-A559-EA2FBD9C6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07BC84-6868-4CF4-BDBC-6AA963B7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7CA86F-F80C-429D-82CE-D7270FA2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52E90B-8259-46B9-873D-0D41CC6E3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D2FD44-97E0-457F-BEA1-08C246003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C8B5BD-0633-4B52-81D7-039E466AA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70E4B5-C3DD-4F52-8A17-422F8C363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6652-BC28-4405-9BC7-8510CCC4C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3EE666-5F88-42D2-A462-4FBE003B4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B944BC-60EF-4E37-BC6D-A1E0FAA01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F5012C-622E-4F15-A2DF-6DEB48EB7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FB46AF-C4B2-42B7-BF28-A8C2EE6DC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B29BFB-6A26-47BD-8A40-D553DF890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015B87-F80B-48C2-84DB-BB71E309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92B422-8ED9-423C-8F96-8E77BEE26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A6BF2D-1EAE-47D1-91B2-BDBCE9C2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90D299-D37B-4049-85BB-A965BB213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088E0B-F601-477E-97EA-A1855687B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7416-C5E0-4503-9561-3584C0D6B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BB7CF7-56C1-4C99-A509-1E710E814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187375-BE24-4D0C-AB85-E0467E00B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DCF969-2AE9-4F49-8116-1D7338C85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8573D8-C1A7-4EAA-BF69-9A81152C7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97878D-5FF8-4E41-80F3-FD51901F2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73D1F1-638E-4374-98D6-11792FF22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F1FFD4-6612-42EC-911D-09D5F0549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88271D-E2F0-4D6A-9781-4DD0468BB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F353BE-66CA-4ACA-B9F0-1DB09A99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E41BC1-8745-44C5-9731-1E40AAD3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3DE8D-964B-4DB5-8A5C-EB97FCF30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0D6F46-4960-40AB-988C-5172E794C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DAB7F0-CB0D-464E-8FC6-0712D7337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DF309E-5074-4123-AF46-69431265C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CA94F8-1905-474E-B61F-2407F8088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DE6DB0-D4BD-4188-BD34-4B78EB544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8A70E8-802B-4E4A-A32F-306BFFD93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EA9CC6-5278-4941-8B2C-2F2FD75E4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DD994B-47D5-4DA0-9DE1-5AA121ED8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BE5DE6-764E-44BA-8D03-7856DB949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770D5A-EA7E-4756-ABFD-E43C1053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E6738-09BD-4DCB-A098-3915F53BB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B3DC78-4CC1-4E2D-9383-D5BDDAD16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CA0FD7-30CF-46AF-A63E-0BDF9503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073302-0BD1-4622-9963-1F69678A3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8F96B9-9057-4117-9B63-56F33967A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075304-1FAC-492E-B976-D8375C06C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0C4EDB-646F-4595-B4B4-E917B8186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0B5A7C-8302-472C-8DC3-38440AC70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0338F7-5D74-4FAB-B3FD-B8254EE32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CF9D7E-95BC-4A94-9D42-06F9CB9F8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F7A0D5-9C85-4369-8274-73F6A2BC5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18C6F-2E13-40A8-A59F-AF0BD7CFE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3EF2A6-AC81-416A-90AA-BF2C43CD8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0B6B84-62F5-4454-B038-67EBB371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4E4B0F-836E-4483-B9C9-8F6E7D83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795DBB-5646-4AA7-8FD7-3850EC3C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76BA79-90FE-4B23-AE22-3218592F8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532E47-30BC-4638-B00E-5D9F4FD0B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4EDED0-9D18-4F31-B499-1267AB179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A085C6-42A3-41CD-B033-5EA8761F7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7D65E1-34E5-4110-8800-700FA99E7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345FA9-30B9-41C9-B9BB-1FB64FA47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F2634-5189-43B9-8D9E-D8789FFFF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040E88-1402-4745-A81D-7D50BE514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4D00F0-B9A6-490F-AEEC-E39E01434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D66BD6-43BD-4EA5-B0DD-DF824DF33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517C5E-5AE4-4D1D-BA5C-804E6CD8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68F5DC-6006-47B1-B6C8-8E9E9930C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AE60F7-3E54-41A3-9C49-7DB7AC39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B56E96-F16F-4F60-8083-9948DF7E9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51C262-3576-4F82-9838-2EFDAEDDE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7A2B93-D031-4CDA-884B-C2B78D6E4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FA0F1-36AA-4557-97FD-1FA950E76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C8482-3F46-4058-B63F-34B4A0A0A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4CDBC-FD95-46C0-919F-8FACF89A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FCCF-95FE-4134-976B-0CCDD0312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A1741-85E1-4B75-9FA2-B72D93DCF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56C5B-7789-48DB-B224-B8496B6B7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541C0-492F-43B6-838B-50FCEC37F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58FA6-CAEA-4BC3-9C00-070DA3D5B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C6298-E1B1-4E44-BA10-A6A722C54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45745-017A-479B-B9BC-79AD71F72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88AEE-8A16-4805-A718-49837483F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4B2FD-5CAC-451B-AAF0-5614F3E0D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F450D-9F6E-40C0-B5E6-31C8566F7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54FF7-A036-44E5-BB15-55C1AAB60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6873-195B-475C-9C79-5F8941454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37E71-83E7-40D5-9E87-F0F12E513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09B35-5991-4EA6-8C08-03491899C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98FA7-ECF7-425F-8CC7-DF0643D07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C2AD9-C151-4D41-BF34-BD6AD0169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6088F-42AC-48FB-B24B-EC48A7F12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9F00B-22A6-4473-9669-3AE385A35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70E57-54F2-4A2D-8DCE-A4E01A559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D7078-B9CD-4F8B-86F2-E776B498C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92330-6F75-4A7A-BB3C-88D44ADA2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B7498-D7E9-4636-BBA8-A5C1D1619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A26C-3855-4CB7-9CE1-E335D29BF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01B8A-6C01-46E3-BF64-7DFD58122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90C76-6FE1-400F-9E3E-B429E14FF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C5239-3B66-4DA2-B367-199E6FD7E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444FF-8AA5-42BA-98F0-AD64E1F3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BAA1F-7D06-4F08-A876-E30AF078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ABBF4-0FB2-468D-968A-05F797EC6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F2D3C-C4EA-465F-853C-ED0F7EE8F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138D3-E5CE-4E83-97C3-331FE2C22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15F52-C9C0-40F4-8740-B572B5455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347430-F86F-44CC-A41E-71DCF9F34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9A1C-0BC9-4ECA-B6CF-28C34F20C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93EF32-1995-4FD2-AD3C-985820204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E3CC52-F5F5-4454-B273-B8FAAC12E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5C7BE7-E293-4986-910F-D47A06B9F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AA4DE-9F46-4A74-BA55-60AE4E4A5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89D5FF-9BFB-4674-91A3-7E6956C20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49615F-BE30-4D47-AA3B-D5F4E7021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12974F-3DA5-49D0-BD30-6E50E30C8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8A888-7E8E-40E2-9068-4313E4E0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3922B-5C4C-48BA-84C8-109739455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E8885F-3E54-49DC-ACE1-03CDB8A4B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56AC-6598-44DA-B0F9-870778733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1B82A-748A-4BB0-8854-03E7CEE20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EA3606-A4A9-4C1E-9BC3-62916C58E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70AE79-0F09-4B40-A44D-647CB75F3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301AE-87B0-41C7-ADB3-EBBCA1176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D1CFAE-F2E5-45C8-A95E-3A9F031B9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11C75C-08ED-4701-9E01-9FD800E61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364D29-1501-4A8E-B38C-059380F07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36E359-A54D-42EA-AA97-146C12B0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533E73-7250-4233-B65A-7EF1EAABB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6FC969-0C5F-470C-8ECD-9BDF7B8C0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2005-4CE3-477F-82DA-53FD2840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4269F7-C69F-433D-88D5-4359A3294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E636D9-C9FB-45A3-A01A-7B2C6969E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35E0B9-D43B-406B-9101-9FF0C7D83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13349A-D17B-486D-978E-77EC4E2EB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D60ABF-BB8C-4E33-88C9-3B5433CD4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D71058-2EE2-439C-9C32-C722E7E2C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6ED426-248D-4CBE-9497-BABA4F43C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96C881-7766-464C-A22B-DB87D22D2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A2B789-FD94-431B-B6AC-A5D45AC15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282054-1059-45BC-BC1F-0EE10EADE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5B7A-F439-4392-AD90-54E54925B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DB07C3-5C22-4DFC-A2F5-F7260B54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D48291-4669-427B-AE76-FD7D341AD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609518-EA6D-4D42-90AC-66ED95CCC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721640-E5F6-416D-9038-E0215DDCA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4B5898-BC23-4EB9-B35A-8C634B08C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955167-3BBF-4B94-A6E2-8F9A42900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6A2F24-F05D-43C3-AB6D-0171B89CC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3E3235-489E-46E4-8C73-119E1BE4C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F1F775-D773-4E3C-815E-3961E2448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C12866-CAA8-424E-9B82-0BA9A4AE9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979C-B34D-4549-820B-38BA9954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456787-15C5-4AE5-B814-01236D294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C60F64-98B7-4683-8B4F-A479C780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DB6140-EE16-4087-890F-BD97FF2CC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DB89B8-7350-4B61-8407-3D5E50E36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CF79A8-62D9-4973-95E0-D6C6A8AEF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788B97-1CFB-4DE2-94CE-D36642095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D7C5CF-2657-4B10-ABF7-F2919E624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EBE55A-C943-4B84-901D-6648D6668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A898D4-8F2E-4DEC-A7BF-D181890CF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1E5615-DCF0-4E14-A7D7-4C5CE58C1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51704-CBE1-4508-81C1-A2DCE4AC7D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F3EEA-718C-4EC8-BB32-54663E6FB1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C2EFE-9496-4CB6-A12B-A3A70C59E0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8CE10-AC80-4E1D-9C79-C2339ED07A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82094-6AFC-4786-9239-2032D7F9CD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CAF17-B663-466A-9102-927FA0DBBE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FC494-A9AE-4382-9236-08B7142A1D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9714C-D0C9-40CF-BCBD-7E9AD5C49B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7E05D-7FBE-40A7-BD93-B569E3BB91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1EAD9-243B-441A-A5B3-360E02BDC3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4AF04-5405-4999-AD1B-8734813291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156C1-3A9E-4C1B-BF78-5BDA47468A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ECD9E-BD5C-413B-8672-84AFB431EB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F3C33-FB64-4EA9-9BEC-EECB0AD450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2" descr="http://images.myshared.ru/7/839528/slide_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/>
          </p:nvPr>
        </p:nvSpPr>
        <p:spPr>
          <a:xfrm>
            <a:off x="531720" y="855720"/>
            <a:ext cx="8213760" cy="39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Arial"/>
              </a:rPr>
              <a:t>День Конституции –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Arial"/>
              </a:rPr>
              <a:t>12 декабр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Arial"/>
              </a:rPr>
              <a:t>26 лет со дня приняти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Arial"/>
              </a:rPr>
              <a:t>Конституции Р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/>
          </p:nvPr>
        </p:nvSpPr>
        <p:spPr>
          <a:xfrm>
            <a:off x="531720" y="855720"/>
            <a:ext cx="8213760" cy="39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Любая конституция</a:t>
            </a:r>
            <a:r>
              <a:rPr b="1" lang="ru-RU" sz="2800" spc="-1" strike="noStrike">
                <a:solidFill>
                  <a:srgbClr val="202a51"/>
                </a:solidFill>
                <a:latin typeface="Arial"/>
              </a:rPr>
              <a:t> – это докумен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2a51"/>
                </a:solidFill>
                <a:latin typeface="Arial"/>
              </a:rPr>
              <a:t>который закрепляет основы конституционного строя государства, права и свободы человека и гражданина, основы общественного строя, форму правления и территориального устройства, организацию высших органов государственной власти, столицу государства и государственную символику.</a:t>
            </a:r>
            <a:r>
              <a:rPr b="0" lang="ru-RU" sz="2800" spc="-1" strike="noStrike">
                <a:solidFill>
                  <a:srgbClr val="202a5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91960" y="612360"/>
            <a:ext cx="423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ГИМН РОСС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48240" y="628560"/>
            <a:ext cx="459576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1" marL="66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</a:rPr>
              <a:t>Россия - священная наша держава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</a:rPr>
              <a:t>Россия - любимая наша страна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</a:rPr>
              <a:t>Могучая воля, великая слава 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</a:rPr>
              <a:t>Твоё достоянье на все времен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Times New Roman"/>
              </a:rPr>
              <a:t>Припев:</a:t>
            </a:r>
            <a:r>
              <a:rPr b="0" lang="ru-RU" sz="16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</a:rPr>
              <a:t>Славься, Отечество наше свободное 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</a:rPr>
              <a:t>Братских народов союз веков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</a:rPr>
              <a:t>Предками данная мудрость народна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</a:rPr>
              <a:t>Славься, страна! Мы гордимся тобой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</a:rPr>
              <a:t>От южных морей до полярного кр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</a:rPr>
              <a:t>Раскинулись наши леса и пол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</a:rPr>
              <a:t>Одна ты на свете! Одна ты такая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</a:rPr>
              <a:t>Хранимая Богом родная земл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Times New Roman"/>
              </a:rPr>
              <a:t>Припев</a:t>
            </a:r>
            <a:r>
              <a:rPr b="0" lang="ru-RU" sz="16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</a:rPr>
              <a:t>Славься, Отечество наше свободное 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</a:rPr>
              <a:t>Братских народов союз веков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</a:rPr>
              <a:t>Предками данная мудрость народна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</a:rPr>
              <a:t>Славься, страна! Мы гордимся тобой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</a:rPr>
              <a:t>         </a:t>
            </a:r>
            <a:r>
              <a:rPr b="0" lang="ru-RU" sz="1600" spc="-1" strike="noStrike">
                <a:solidFill>
                  <a:srgbClr val="003300"/>
                </a:solidFill>
                <a:latin typeface="Times New Roman"/>
              </a:rPr>
              <a:t>Широкий простор для мечты и для жизн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</a:rPr>
              <a:t>Грядущие нам открывают год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</a:rPr>
              <a:t>Нам силу даёт наша верность Отчизн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</a:rPr>
              <a:t>Так было, так есть и так будет всегда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Times New Roman"/>
              </a:rPr>
              <a:t>Припев.</a:t>
            </a:r>
            <a:r>
              <a:rPr b="0" lang="ru-RU" sz="16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4"/>
          <p:cNvSpPr/>
          <p:nvPr/>
        </p:nvSpPr>
        <p:spPr>
          <a:xfrm>
            <a:off x="655560" y="2416320"/>
            <a:ext cx="32688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Слова: Михалков С.В. советский пис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(д.р. 1913 го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Музыка: Александров А.В. композитор и дирижё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(1883 – 1946 г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883040" y="518760"/>
            <a:ext cx="3400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ФЛАГ РОСС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Picture 4" descr=""/>
          <p:cNvPicPr/>
          <p:nvPr/>
        </p:nvPicPr>
        <p:blipFill>
          <a:blip r:embed="rId1"/>
          <a:stretch/>
        </p:blipFill>
        <p:spPr>
          <a:xfrm>
            <a:off x="5691240" y="2279520"/>
            <a:ext cx="1905120" cy="126684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3" descr=""/>
          <p:cNvPicPr/>
          <p:nvPr/>
        </p:nvPicPr>
        <p:blipFill>
          <a:blip r:embed="rId2"/>
          <a:stretch/>
        </p:blipFill>
        <p:spPr>
          <a:xfrm>
            <a:off x="1082520" y="2171880"/>
            <a:ext cx="1857600" cy="2189160"/>
          </a:xfrm>
          <a:prstGeom prst="rect">
            <a:avLst/>
          </a:prstGeom>
          <a:ln w="0">
            <a:noFill/>
          </a:ln>
        </p:spPr>
      </p:pic>
      <p:sp>
        <p:nvSpPr>
          <p:cNvPr id="602" name="Text Box 6"/>
          <p:cNvSpPr/>
          <p:nvPr/>
        </p:nvSpPr>
        <p:spPr>
          <a:xfrm>
            <a:off x="523800" y="379440"/>
            <a:ext cx="3100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ГЕРБ РОСС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7"/>
          <p:cNvSpPr/>
          <p:nvPr/>
        </p:nvSpPr>
        <p:spPr>
          <a:xfrm>
            <a:off x="5253120" y="4037040"/>
            <a:ext cx="309888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евнерусское понимание мира в символике цвет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лый – цвет мира Божествен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ний цвет – небес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сный – цвет мира физического (природного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0" y="323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История Конституции Росс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402920" y="1628280"/>
            <a:ext cx="661212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02a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1918</a:t>
            </a:r>
            <a:r>
              <a:rPr b="1" lang="en-US" sz="3200" spc="-1" strike="noStrike">
                <a:solidFill>
                  <a:srgbClr val="202a51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г. Конституция РСФС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02a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1924</a:t>
            </a:r>
            <a:r>
              <a:rPr b="1" lang="en-US" sz="3200" spc="-1" strike="noStrike">
                <a:solidFill>
                  <a:srgbClr val="202a51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г. Конституция ССС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02a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1936</a:t>
            </a:r>
            <a:r>
              <a:rPr b="1" lang="en-US" sz="3200" spc="-1" strike="noStrike">
                <a:solidFill>
                  <a:srgbClr val="202a51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г. Конституция ССС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02a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1977</a:t>
            </a:r>
            <a:r>
              <a:rPr b="1" lang="en-US" sz="3200" spc="-1" strike="noStrike">
                <a:solidFill>
                  <a:srgbClr val="202a51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г. Конституция ССС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02a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1993</a:t>
            </a:r>
            <a:r>
              <a:rPr b="1" lang="en-US" sz="3200" spc="-1" strike="noStrike">
                <a:solidFill>
                  <a:srgbClr val="202a51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г. Конституция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86920" y="256680"/>
            <a:ext cx="7961400" cy="126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Конституция РСФСР 1918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г.</a:t>
            </a:r>
            <a:r>
              <a:rPr b="1" lang="ru-RU" sz="4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23720" y="1855440"/>
            <a:ext cx="558504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353880"/>
                <a:tab algn="l" pos="708120"/>
                <a:tab algn="l" pos="1062000"/>
                <a:tab algn="l" pos="1415880"/>
                <a:tab algn="l" pos="1770120"/>
                <a:tab algn="l" pos="2124000"/>
                <a:tab algn="l" pos="2478240"/>
                <a:tab algn="l" pos="2832120"/>
                <a:tab algn="l" pos="3186000"/>
                <a:tab algn="l" pos="3540240"/>
                <a:tab algn="l" pos="3894120"/>
                <a:tab algn="l" pos="4248000"/>
                <a:tab algn="l" pos="4602240"/>
                <a:tab algn="l" pos="4956120"/>
                <a:tab algn="l" pos="5310360"/>
                <a:tab algn="l" pos="5664240"/>
                <a:tab algn="l" pos="6018120"/>
                <a:tab algn="l" pos="6372360"/>
                <a:tab algn="l" pos="6726240"/>
                <a:tab algn="l" pos="7080120"/>
              </a:tabLst>
            </a:pP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Данная Конституция была 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самой идеологизированной</a:t>
            </a: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 из всех советских конституц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Picture 4" descr="220px-Обложка_Конституции_РСФСР_1918_года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6140520" y="1571760"/>
            <a:ext cx="2697120" cy="3935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88960" y="460440"/>
            <a:ext cx="5353200" cy="121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Конституция СССР </a:t>
            </a: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1924 г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487680" y="2787120"/>
            <a:ext cx="5656320" cy="48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02a51"/>
                </a:solidFill>
                <a:latin typeface="Arial"/>
              </a:rPr>
              <a:t>1924 года Конституция была единогласно принята II съездом Совето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Picture 4" descr="ussr"/>
          <p:cNvPicPr/>
          <p:nvPr/>
        </p:nvPicPr>
        <p:blipFill>
          <a:blip r:embed="rId1"/>
          <a:stretch/>
        </p:blipFill>
        <p:spPr>
          <a:xfrm>
            <a:off x="6488280" y="146160"/>
            <a:ext cx="2261880" cy="231768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2" descr=""/>
          <p:cNvPicPr/>
          <p:nvPr/>
        </p:nvPicPr>
        <p:blipFill>
          <a:blip r:embed="rId2"/>
          <a:stretch/>
        </p:blipFill>
        <p:spPr>
          <a:xfrm>
            <a:off x="595440" y="1960560"/>
            <a:ext cx="2012760" cy="31273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55480" y="379080"/>
            <a:ext cx="52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Конституция СССР </a:t>
            </a: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1936 г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694480" cy="28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02a51"/>
                </a:solidFill>
                <a:latin typeface="Arial"/>
              </a:rPr>
              <a:t>Неофициальное название: </a:t>
            </a:r>
            <a:r>
              <a:rPr b="1" lang="ru-RU" sz="2200" spc="-1" strike="noStrike">
                <a:solidFill>
                  <a:srgbClr val="cc0000"/>
                </a:solidFill>
                <a:latin typeface="Arial"/>
              </a:rPr>
              <a:t>«Сталинская конституция»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200" spc="-1" strike="noStrike">
                <a:solidFill>
                  <a:srgbClr val="202a51"/>
                </a:solidFill>
                <a:latin typeface="Arial"/>
              </a:rPr>
              <a:t> Несмотря на свое название, основным автором конституции был впоследствии репрессированный Николай Бухарин. В работе над текстом конституции непосредственно принимал участие И.В. Сталин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Picture 4" descr="0_1c0d6_199e7891_XL"/>
          <p:cNvPicPr/>
          <p:nvPr/>
        </p:nvPicPr>
        <p:blipFill>
          <a:blip r:embed="rId1"/>
          <a:srcRect l="3045" t="1386" r="2149" b="1890"/>
          <a:stretch/>
        </p:blipFill>
        <p:spPr>
          <a:xfrm>
            <a:off x="6000840" y="438120"/>
            <a:ext cx="2766960" cy="401148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5"/>
          <p:cNvSpPr/>
          <p:nvPr/>
        </p:nvSpPr>
        <p:spPr>
          <a:xfrm>
            <a:off x="3564000" y="4724280"/>
            <a:ext cx="5603760" cy="15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В ее обсуждении впервые участвовало 75 млн. ч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63080" y="374400"/>
            <a:ext cx="6062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Конституция СССР</a:t>
            </a: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 1977 г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3624120" y="3016080"/>
            <a:ext cx="526104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02a51"/>
                </a:solidFill>
                <a:latin typeface="Arial"/>
              </a:rPr>
              <a:t>Вошла в историю как конституция развитого социализма» или </a:t>
            </a: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«Брежневская конституция»</a:t>
            </a:r>
            <a:r>
              <a:rPr b="1" lang="ru-RU" sz="3600" spc="-1" strike="noStrike">
                <a:solidFill>
                  <a:srgbClr val="202a51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Picture 4" descr="brezh"/>
          <p:cNvPicPr/>
          <p:nvPr/>
        </p:nvPicPr>
        <p:blipFill>
          <a:blip r:embed="rId1">
            <a:lum bright="-6000"/>
          </a:blip>
          <a:srcRect l="0" t="1087" r="0" b="0"/>
          <a:stretch/>
        </p:blipFill>
        <p:spPr>
          <a:xfrm>
            <a:off x="6324480" y="166680"/>
            <a:ext cx="1933560" cy="264492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5" descr=""/>
          <p:cNvPicPr/>
          <p:nvPr/>
        </p:nvPicPr>
        <p:blipFill>
          <a:blip r:embed="rId2"/>
          <a:stretch/>
        </p:blipFill>
        <p:spPr>
          <a:xfrm>
            <a:off x="493560" y="1882800"/>
            <a:ext cx="2252880" cy="3014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1807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1371600" y="3564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2" descr="https://arhivurokov.ru/videouroki/html/2017/12/07/v_5a298926c4d80/img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0" y="347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12 декабря 1993 г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98360" y="1600200"/>
            <a:ext cx="5765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02a51"/>
                </a:solidFill>
                <a:latin typeface="Arial"/>
              </a:rPr>
              <a:t>Всенародным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202a51"/>
                </a:solidFill>
                <a:latin typeface="Arial"/>
              </a:rPr>
              <a:t>голосованием была приня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02a51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Конституция Российской Федерации</a:t>
            </a:r>
            <a:r>
              <a:rPr b="1" lang="ru-RU" sz="4400" spc="-1" strike="noStrike">
                <a:solidFill>
                  <a:srgbClr val="202a5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Picture 5" descr=""/>
          <p:cNvPicPr/>
          <p:nvPr/>
        </p:nvPicPr>
        <p:blipFill>
          <a:blip r:embed="rId1"/>
          <a:stretch/>
        </p:blipFill>
        <p:spPr>
          <a:xfrm>
            <a:off x="6784920" y="1336680"/>
            <a:ext cx="2259000" cy="349236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3" descr=""/>
          <p:cNvPicPr/>
          <p:nvPr/>
        </p:nvPicPr>
        <p:blipFill>
          <a:blip r:embed="rId2"/>
          <a:stretch/>
        </p:blipFill>
        <p:spPr>
          <a:xfrm>
            <a:off x="5194440" y="3649680"/>
            <a:ext cx="3552840" cy="32083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202a5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02a51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Конституция Российской Федерации</a:t>
            </a:r>
            <a:r>
              <a:rPr b="1" lang="ru-RU" sz="4000" spc="-1" strike="noStrike">
                <a:solidFill>
                  <a:srgbClr val="202a51"/>
                </a:solidFill>
                <a:latin typeface="Times New Roman"/>
              </a:rPr>
              <a:t>  - это </a:t>
            </a:r>
            <a:r>
              <a:rPr b="1" i="1" lang="ru-RU" sz="4000" spc="-1" strike="noStrike">
                <a:solidFill>
                  <a:srgbClr val="cc0000"/>
                </a:solidFill>
                <a:latin typeface="Times New Roman"/>
              </a:rPr>
              <a:t>основной закон</a:t>
            </a:r>
            <a:r>
              <a:rPr b="1" lang="ru-RU" sz="4000" spc="-1" strike="noStrike">
                <a:solidFill>
                  <a:srgbClr val="202a51"/>
                </a:solidFill>
                <a:latin typeface="Times New Roman"/>
              </a:rPr>
              <a:t> нашего государства, который имеет высшую юридическую силу, прямое действие и применяется на всей территории РФ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4"/>
          <p:cNvSpPr/>
          <p:nvPr/>
        </p:nvSpPr>
        <p:spPr>
          <a:xfrm>
            <a:off x="0" y="390600"/>
            <a:ext cx="907416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Конституция Р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Picture 7" descr="398597733"/>
          <p:cNvPicPr/>
          <p:nvPr/>
        </p:nvPicPr>
        <p:blipFill>
          <a:blip r:embed="rId1"/>
          <a:stretch/>
        </p:blipFill>
        <p:spPr>
          <a:xfrm>
            <a:off x="6351480" y="5267160"/>
            <a:ext cx="1533600" cy="10479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4920" y="313920"/>
            <a:ext cx="90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Структура Конститу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35992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Преамбу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Раздел перв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2a51"/>
                </a:solidFill>
                <a:latin typeface="Arial"/>
              </a:rPr>
              <a:t>Глава 1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Основы конституционного строя (ст.1-1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2a51"/>
                </a:solidFill>
                <a:latin typeface="Arial"/>
              </a:rPr>
              <a:t>Глава 2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Права и свободы человека и гражданина (ст.17-6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2a51"/>
                </a:solidFill>
                <a:latin typeface="Arial"/>
              </a:rPr>
              <a:t>Глава 3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федеральное устройство (ст.65-7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2a51"/>
                </a:solidFill>
                <a:latin typeface="Arial"/>
              </a:rPr>
              <a:t>Глава 4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Президент Российской Федерации (ст.80-9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2a51"/>
                </a:solidFill>
                <a:latin typeface="Arial"/>
              </a:rPr>
              <a:t>Глава 5.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Федеральное собрание (ст.94-10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2a51"/>
                </a:solidFill>
                <a:latin typeface="Arial"/>
              </a:rPr>
              <a:t>Глава 6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Правительство Российской Федерации (ст.110-11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2a51"/>
                </a:solidFill>
                <a:latin typeface="Arial"/>
              </a:rPr>
              <a:t>Глава 7.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Судебная власть (ст.118-12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2a51"/>
                </a:solidFill>
                <a:latin typeface="Arial"/>
              </a:rPr>
              <a:t>Глава 8.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Местное самоуправление (ст.130-13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2a51"/>
                </a:solidFill>
                <a:latin typeface="Arial"/>
              </a:rPr>
              <a:t>Глава 9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Конституционные поправки и пересмо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                 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конституции (ст.134-13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Раздел второй. Заключительные и переходные по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/>
          </p:nvPr>
        </p:nvSpPr>
        <p:spPr>
          <a:xfrm>
            <a:off x="896760" y="1936800"/>
            <a:ext cx="6624720" cy="27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2a51"/>
                </a:solidFill>
                <a:latin typeface="Times New Roman"/>
              </a:rPr>
              <a:t>Конституция РФ </a:t>
            </a: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закрепляет</a:t>
            </a:r>
            <a:r>
              <a:rPr b="1" lang="ru-RU" sz="2800" spc="-1" strike="noStrike">
                <a:solidFill>
                  <a:srgbClr val="202a51"/>
                </a:solidFill>
                <a:latin typeface="Times New Roman"/>
              </a:rPr>
              <a:t> основы конституционного строя России, права и свободы человека и гражданина, федеративное устройство, организацию высших органов государственной вла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title"/>
          </p:nvPr>
        </p:nvSpPr>
        <p:spPr>
          <a:xfrm>
            <a:off x="34920" y="523800"/>
            <a:ext cx="676584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Конституция Р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Picture 6" descr="russia_symbols"/>
          <p:cNvPicPr/>
          <p:nvPr/>
        </p:nvPicPr>
        <p:blipFill>
          <a:blip r:embed="rId1"/>
          <a:srcRect l="66644" t="0" r="0" b="0"/>
          <a:stretch/>
        </p:blipFill>
        <p:spPr>
          <a:xfrm>
            <a:off x="7050240" y="195120"/>
            <a:ext cx="1912680" cy="2286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4920" y="523800"/>
            <a:ext cx="907416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Наши пра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202a5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2a51"/>
                </a:solidFill>
                <a:latin typeface="Times New Roman"/>
              </a:rPr>
              <a:t>По Конституции нашей страны мы имеем право на жизнь, имеем право выбирать профессию, имеем право на отдых, жилье и медицинскую помощ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202a5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2a51"/>
                </a:solidFill>
                <a:latin typeface="Times New Roman"/>
              </a:rPr>
              <a:t>Все люди равны перед законом, и каждого из нас защищает государство, через полицию и су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Picture 4" descr="794300152"/>
          <p:cNvPicPr/>
          <p:nvPr/>
        </p:nvPicPr>
        <p:blipFill>
          <a:blip r:embed="rId1"/>
          <a:stretch/>
        </p:blipFill>
        <p:spPr>
          <a:xfrm>
            <a:off x="6073920" y="4818240"/>
            <a:ext cx="1814400" cy="1333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4920" y="293400"/>
            <a:ext cx="90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Наши своб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569440" cy="40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02a5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02a51"/>
                </a:solidFill>
                <a:latin typeface="Times New Roman"/>
              </a:rPr>
              <a:t>Наши свободы – свобода слова, вероисповедания и совест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02a5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02a51"/>
                </a:solidFill>
                <a:latin typeface="Times New Roman"/>
              </a:rPr>
              <a:t>По этому закону все права и свободы, данные нам государством, не должны нарушать или ущемлять права и свободы других граждан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Конституция для школьн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5121360" cy="28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2a51"/>
                </a:solidFill>
                <a:latin typeface="Times New Roman"/>
              </a:rPr>
              <a:t>Каждый ученик может подробнее узнать о Конституции РФ, прочитав сам закон, или специальный справочник для школь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Picture 3" descr=""/>
          <p:cNvPicPr/>
          <p:nvPr/>
        </p:nvPicPr>
        <p:blipFill>
          <a:blip r:embed="rId1"/>
          <a:stretch/>
        </p:blipFill>
        <p:spPr>
          <a:xfrm>
            <a:off x="5613480" y="1538280"/>
            <a:ext cx="2909880" cy="46576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-157320" y="301680"/>
            <a:ext cx="9144000" cy="170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66"/>
                </a:solidFill>
                <a:latin typeface="Arial"/>
              </a:rPr>
              <a:t>С праздником,</a:t>
            </a:r>
            <a:br>
              <a:rPr sz="5400"/>
            </a:br>
            <a:r>
              <a:rPr b="1" lang="ru-RU" sz="5400" spc="-1" strike="noStrike">
                <a:solidFill>
                  <a:srgbClr val="003366"/>
                </a:solidFill>
                <a:latin typeface="Arial"/>
              </a:rPr>
              <a:t> Днём Конституции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6"/>
          <p:cNvSpPr/>
          <p:nvPr/>
        </p:nvSpPr>
        <p:spPr>
          <a:xfrm>
            <a:off x="4321080" y="4497480"/>
            <a:ext cx="44848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Picture 2" descr=""/>
          <p:cNvPicPr/>
          <p:nvPr/>
        </p:nvPicPr>
        <p:blipFill>
          <a:blip r:embed="rId1"/>
          <a:srcRect l="0" t="0" r="4179" b="2942"/>
          <a:stretch/>
        </p:blipFill>
        <p:spPr>
          <a:xfrm>
            <a:off x="1898640" y="1986120"/>
            <a:ext cx="3203640" cy="4068720"/>
          </a:xfrm>
          <a:prstGeom prst="rect">
            <a:avLst/>
          </a:prstGeom>
          <a:ln w="0">
            <a:noFill/>
          </a:ln>
        </p:spPr>
      </p:pic>
      <p:sp>
        <p:nvSpPr>
          <p:cNvPr id="644" name="Text Box 9"/>
          <p:cNvSpPr/>
          <p:nvPr/>
        </p:nvSpPr>
        <p:spPr>
          <a:xfrm>
            <a:off x="2589120" y="6153120"/>
            <a:ext cx="25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й экземпля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Picture 7" descr=""/>
          <p:cNvPicPr/>
          <p:nvPr/>
        </p:nvPicPr>
        <p:blipFill>
          <a:blip r:embed="rId2"/>
          <a:stretch/>
        </p:blipFill>
        <p:spPr>
          <a:xfrm>
            <a:off x="5184720" y="2627280"/>
            <a:ext cx="3621240" cy="4076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WordArt 7"/>
          <p:cNvSpPr txBox="1"/>
          <p:nvPr/>
        </p:nvSpPr>
        <p:spPr>
          <a:xfrm>
            <a:off x="2146320" y="0"/>
            <a:ext cx="5473800" cy="604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Спасибо 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за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внимание!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p:transition spd="slow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471636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ата 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декабр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азднуется: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оссии, Украине, Беларуси и других странах ми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чрежден: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олюция от 4 декабря 1950 года № 423 (V) 317 пленарного заседания Генеральной Ассамблеи О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начение: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урочен к принятию Всеобщей декларации прав человека 10.12.1948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радиции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зличные официальные и неофициальные разъяснительные собрания и акции, цель которых – беседы с населением о правах человека и их защи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2" descr="C:\Users\Admin\Desktop\октябрь 2018\10.12. День прав человека\4.jpg"/>
          <p:cNvPicPr/>
          <p:nvPr/>
        </p:nvPicPr>
        <p:blipFill>
          <a:blip r:embed="rId1"/>
          <a:stretch/>
        </p:blipFill>
        <p:spPr>
          <a:xfrm>
            <a:off x="4773600" y="189000"/>
            <a:ext cx="4370400" cy="6426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298440" y="149400"/>
            <a:ext cx="4035600" cy="56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декабря 1948 г. Генеральная Ассамблея (ГА) ООН объявила о том, что Всеобщая декларация прав человека, которую она только что приняла, есть не что иное, как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норма, к свершению которой обязаны стремиться люди всех держа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2" descr=""/>
          <p:cNvPicPr/>
          <p:nvPr/>
        </p:nvPicPr>
        <p:blipFill>
          <a:blip r:embed="rId1"/>
          <a:stretch/>
        </p:blipFill>
        <p:spPr>
          <a:xfrm>
            <a:off x="4219560" y="757080"/>
            <a:ext cx="4670280" cy="4726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 txBox="1"/>
          <p:nvPr/>
        </p:nvSpPr>
        <p:spPr>
          <a:xfrm>
            <a:off x="622080" y="272520"/>
            <a:ext cx="806436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оссии, как и во всем мир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декабря каждого года проходят мероприятия, на которых обсуждаются вопросы о правах человека и их защите. В этот день чтят память жертв геноцида и политических репресс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же ежегодно выбирается тема, посвященная данному праздни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3575160" y="272880"/>
            <a:ext cx="527688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кларация прав человека внесена в Книгу рекордов Гиннесса как документ, переведенный на более чем 400 языков и диалектов, что свидетельству т о ее универсальном характере и масштабах ее распростране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Picture 2" descr=""/>
          <p:cNvPicPr/>
          <p:nvPr/>
        </p:nvPicPr>
        <p:blipFill>
          <a:blip r:embed="rId1"/>
          <a:stretch/>
        </p:blipFill>
        <p:spPr>
          <a:xfrm>
            <a:off x="162000" y="665280"/>
            <a:ext cx="3232080" cy="4132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/>
          </p:nvPr>
        </p:nvSpPr>
        <p:spPr>
          <a:xfrm>
            <a:off x="457200" y="356760"/>
            <a:ext cx="444672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59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у ООН принял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кларацию прав ребенк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 которой были провозглашены социальные и правовые принципы, касающиеся защиты и благополучия детей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оябре 1989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а Генеральная Ассамблея ООН приня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венцию о правах ребен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Picture 2" descr=""/>
          <p:cNvPicPr/>
          <p:nvPr/>
        </p:nvPicPr>
        <p:blipFill>
          <a:blip r:embed="rId1"/>
          <a:stretch/>
        </p:blipFill>
        <p:spPr>
          <a:xfrm>
            <a:off x="4789440" y="1047600"/>
            <a:ext cx="4140360" cy="4249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 txBox="1"/>
          <p:nvPr/>
        </p:nvSpPr>
        <p:spPr>
          <a:xfrm>
            <a:off x="3206520" y="272520"/>
            <a:ext cx="581796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Венской декларации и Программе действий, принятых на Международной конференции по правам человека 25 июня 1993 г., были прописаны общие позиции и сказано о необходимости искоренения проявлений расизма, всех форм дискриминации, ксенофобии и нетерпимости одних людей к друг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Picture 2" descr=""/>
          <p:cNvPicPr/>
          <p:nvPr/>
        </p:nvPicPr>
        <p:blipFill>
          <a:blip r:embed="rId1"/>
          <a:stretch/>
        </p:blipFill>
        <p:spPr>
          <a:xfrm>
            <a:off x="214200" y="1576440"/>
            <a:ext cx="3270240" cy="24526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1807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1371600" y="3564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2" descr="https://arhivurokov.ru/videouroki/html/2017/12/07/v_5a298926c4d80/img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1T10:35:24Z</dcterms:created>
  <dc:creator>1</dc:creator>
  <dc:description/>
  <dc:language>en-US</dc:language>
  <cp:lastModifiedBy>user</cp:lastModifiedBy>
  <dcterms:modified xsi:type="dcterms:W3CDTF">2019-12-12T02:51:47Z</dcterms:modified>
  <cp:revision>76</cp:revision>
  <dc:subject/>
  <dc:title>Слайд 1</dc:title>
</cp:coreProperties>
</file>