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23F-C01A-4272-BB66-A4E05ABF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B52-2907-4895-9B15-F6FEAD43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E4D-12DB-4DE4-8B9C-0CE0B6F8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F38-079F-4F56-81F1-E26F7E10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42D9-4906-4FA0-B8AA-8231BA2F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60FA-F786-4C4B-864D-A316DB48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B2A6-1A63-4CF5-80FB-8D4227C2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22BB-CA87-46BB-9B46-083FB647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E7C0-22BF-4DF8-BAEA-C5DB18C6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75C9-7F96-46E4-AA59-80FF944C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0EDF-97AE-4CDA-A726-767D3EF7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384-A7CF-45FF-AEC5-D55E5535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C40D-5D4E-435F-824E-B72CAB7C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6400-00CA-45D6-B469-CB6A0479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D1C6-CCEB-4024-B1AD-713E2EEE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D986-3797-4119-80EA-2041B195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2003-4E97-449D-8CA1-DB1B145B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3754D-932A-4564-8879-86032A78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BFF54-B38D-4E1C-B081-291A299E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817FF-7E69-4A87-B024-1FCC3532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4F76B-E595-4CC2-8572-43E53D8B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BEAC8-3FBB-41C9-9E8D-85948056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8AC-9292-486C-8B50-1B6B225E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F233E-0226-4A05-BB3C-9AF8EEBD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AB362-1894-4B7B-95DF-B2CFCD61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FFF63-A3F6-4C24-9C73-956BA310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66B8B-5883-4F6D-A4C1-C98060D3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4CB8E-FF5E-4744-8E8E-63FD08DF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B10D0-DAF1-4CC6-AA36-8EE8E5AB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28FB4-98FF-4AEF-A323-F8BEE7A5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980C3-1040-4AFE-B7D6-6F531E64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867B-D3BF-497A-8764-366BE7A1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35647-25FE-43DF-BBB5-A2EDDE90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3A1-8241-4308-8C22-1A7AAEA2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069E-CA6E-45E9-9B24-537EF70B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DF1E0-D06E-4D18-B286-C1A6667B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5B2F9-FE2C-42A5-86F8-AD1DEA81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2A009-A873-442D-B9C9-487A7F6E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5CFB8-D1EA-4BC0-8EB3-9687ED6D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2718-8693-4CE7-941F-CCD06FCA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1B294-6011-494B-926A-2F60439E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47D8-ECD6-40D4-978C-0381A4BC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5090A-9B9B-4027-8449-48A98DFE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A6B-FC23-4694-940A-256DD306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C14-DC37-4488-B842-7BB7050E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B67-DD3D-4C7B-913C-F381FE3F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1BC-BEE6-4F84-8262-77F47FFC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65E-3F5A-41E2-8C1D-532BFF65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327A-839E-4AAB-8D16-430D452201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0DB5-9DD8-44BC-AD62-5AD259E1DB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A541-816C-4027-B6B0-7CF61DEC13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8CBB-51E3-4B06-8480-0CA354C88E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nordrus.ru/" TargetMode="External"/><Relationship Id="rId2" Type="http://schemas.openxmlformats.org/officeDocument/2006/relationships/hyperlink" Target="https://www.nordrus.ru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stjag.ru/" TargetMode="External"/><Relationship Id="rId2" Type="http://schemas.openxmlformats.org/officeDocument/2006/relationships/hyperlink" Target="https://vk.com/skmr_vsko" TargetMode="External"/><Relationship Id="rId3" Type="http://schemas.openxmlformats.org/officeDocument/2006/relationships/hyperlink" Target="https://yunarmy.ru/" TargetMode="External"/><Relationship Id="rId4" Type="http://schemas.openxmlformats.org/officeDocument/2006/relationships/hyperlink" Target="https://yunarmy.ru/yunarmeyskielagerya/yunarmiya-art-vdts-orlenok/" TargetMode="External"/><Relationship Id="rId5" Type="http://schemas.openxmlformats.org/officeDocument/2006/relationships/hyperlink" Target="https://yunarmy.ru/yunarmeyskielagerya/yunarmiya-art-vdts-orlenok/" TargetMode="External"/><Relationship Id="rId6" Type="http://schemas.openxmlformats.org/officeDocument/2006/relationships/hyperlink" Target="https://yunarmy.ru/yunarmeyskielagerya/yunarmiya-art-vdts-orlenok/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nors-r.ru/" TargetMode="External"/><Relationship Id="rId2" Type="http://schemas.openxmlformats.org/officeDocument/2006/relationships/hyperlink" Target="https://nors-r.ru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7"/>
          <p:cNvSpPr/>
          <p:nvPr/>
        </p:nvSpPr>
        <p:spPr>
          <a:xfrm>
            <a:off x="4140360" y="2257560"/>
            <a:ext cx="483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3f68"/>
                </a:solidFill>
                <a:latin typeface="Times New Roman"/>
                <a:ea typeface="Times New Roman"/>
              </a:rPr>
              <a:t>Практико-ориентированный семинар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3f68"/>
                </a:solidFill>
                <a:latin typeface="Times New Roman"/>
                <a:ea typeface="Times New Roman"/>
              </a:rPr>
              <a:t>« Из нас слагается народ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49320" y="476280"/>
            <a:ext cx="2681280" cy="1784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"/>
          <p:cNvPicPr/>
          <p:nvPr/>
        </p:nvPicPr>
        <p:blipFill>
          <a:blip r:embed="rId2"/>
          <a:stretch/>
        </p:blipFill>
        <p:spPr>
          <a:xfrm>
            <a:off x="1582560" y="2246400"/>
            <a:ext cx="2538720" cy="1900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"/>
          <p:cNvPicPr/>
          <p:nvPr/>
        </p:nvPicPr>
        <p:blipFill>
          <a:blip r:embed="rId3"/>
          <a:stretch/>
        </p:blipFill>
        <p:spPr>
          <a:xfrm>
            <a:off x="243000" y="4292640"/>
            <a:ext cx="27842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циально-патриотическое воспитание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о на активизацию духовно-нравственной и культурно-исторической преемственности поколений, формирование активной жизненной позиции, проявление чувств благородства и сострадания, проявление заботы о людях пожилого возраст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ероико-патриотическое воспитание</a:t>
            </a: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ная часть, ориентированная на пропаганду героических профессий, а также знаменательных героических и исторических дат нашей истории, воспитание чувства гордости к героическим деяниям предков и их традициям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портивно-патриотическое воспитание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о на развитие морально-волевых качеств, воспитание силы, ловкости, выносливости, стойкости, мужества, дисциплинированности в процессе занятий физической культурой и спортом, формирование опыта служения Отечеству и готовности к защите  Родин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Формы работы по патриотическому воспитанию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памя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ая истории славной страниц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ветеранами В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школы и семь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ми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спортивный клу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курс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кие общественные движения патриотической направленности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вижение пионеров представлено Международным союзом детских общественных объединений. Речь идет о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«Союзе пионерских организаций-Федерации детских организаций»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СПО-ФДО), куда входят обновленные организации пионеров местного значения, отряды и отдельные дружины. СПО-ФДО — организация некоммерческая и негосударственная, действующая независимо от политических партий и движений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01600" y="1125000"/>
            <a:ext cx="896472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циональная организация добровольцев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Русь»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айт НОД 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«Русь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»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3"/>
          <a:stretch/>
        </p:blipFill>
        <p:spPr>
          <a:xfrm>
            <a:off x="900000" y="2124000"/>
            <a:ext cx="77043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оенно-патриотические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7640" y="1557360"/>
            <a:ext cx="928836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buClr>
                <a:srgbClr val="a04da3"/>
              </a:buClr>
              <a:buSzPct val="31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1"/>
              </a:rPr>
              <a:t>«Стяг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ассоциация военно-патриотических клубов;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buClr>
                <a:srgbClr val="a04da3"/>
              </a:buClr>
              <a:buSzPct val="3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вые объединения;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buClr>
                <a:srgbClr val="a04da3"/>
              </a:buClr>
              <a:buSzPct val="3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бы «Зарницы», «Перекопа», «Орлёнка» и др.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buClr>
                <a:srgbClr val="a04da3"/>
              </a:buClr>
              <a:buSzPct val="3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2"/>
              </a:rPr>
              <a:t>Союз казачьей молодежи Росс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buClr>
                <a:srgbClr val="a04da3"/>
              </a:buClr>
              <a:buSzPct val="35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е десантники и пограничники, объединенные в клубы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ts val="1800"/>
              </a:lnSpc>
              <a:spcBef>
                <a:spcPts val="300"/>
              </a:spcBef>
              <a:spcAft>
                <a:spcPts val="2251"/>
              </a:spcAft>
              <a:buClr>
                <a:srgbClr val="a04da3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ru-RU" sz="32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3"/>
              </a:rPr>
              <a:t>Юнарм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4"/>
              </a:rPr>
              <a:t>сайт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5"/>
              </a:rPr>
              <a:t> 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6"/>
              </a:rPr>
              <a:t>Юнармии</a:t>
            </a:r>
            <a:r>
              <a:rPr b="0" i="1" lang="ru-RU" sz="2400" spc="-1" strike="noStrike" u="sng">
                <a:solidFill>
                  <a:srgbClr val="4fc48a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buClr>
                <a:srgbClr val="a04da3"/>
              </a:buClr>
              <a:buSzPct val="5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7"/>
          <a:stretch/>
        </p:blipFill>
        <p:spPr>
          <a:xfrm>
            <a:off x="5651640" y="4941720"/>
            <a:ext cx="25858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648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каутские организаци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79280" y="1125000"/>
            <a:ext cx="864072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1990 году в России возобновилось скаутское движение. Сегодня в нашей стране действуют три скаутские организации общероссийского значе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50000"/>
              </a:lnSpc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1"/>
              </a:rPr>
              <a:t>Национальная организация </a:t>
            </a:r>
            <a:r>
              <a:rPr b="0" lang="ru-RU" sz="2400" spc="-1" strike="noStrike" u="sng">
                <a:solidFill>
                  <a:srgbClr val="67afbd"/>
                </a:solidFill>
                <a:uFillTx/>
                <a:latin typeface="Times New Roman"/>
                <a:ea typeface="Times New Roman"/>
                <a:hlinkClick r:id="rId2"/>
              </a:rPr>
              <a:t>скаутов-разведчиков</a:t>
            </a:r>
            <a:r>
              <a:rPr b="0" lang="ru-RU" sz="2400" spc="-1" strike="noStrike" u="sng">
                <a:solidFill>
                  <a:srgbClr val="4fc48a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fc48a"/>
                </a:solidFill>
                <a:uFillTx/>
                <a:latin typeface="Times New Roman"/>
                <a:ea typeface="Times New Roman"/>
              </a:rPr>
              <a:t>(сайт Национальной организации скаутов-разведчиков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50000"/>
              </a:lnSpc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fc48a"/>
                </a:solidFill>
                <a:uFillTx/>
                <a:latin typeface="Times New Roman"/>
                <a:ea typeface="Times New Roman"/>
              </a:rPr>
              <a:t>Всероссийская национальная скаутская организ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50000"/>
              </a:lnSpc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fc48a"/>
                </a:solidFill>
                <a:uFillTx/>
                <a:latin typeface="Times New Roman"/>
                <a:ea typeface="Times New Roman"/>
              </a:rPr>
              <a:t>Российская ассоциация навигаторов-скаут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йты организаций, занимающиеся патриотическим направлением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95280" y="278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s://www.rospatriotcentr.ru/smi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s://dobro.ru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s://vospitai-patriota.ru/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s://compass.historyrussia.org/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s://razgovor.edsoo.ru/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s://pamyat-naroda.ru/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и т.д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ая часть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 – предметно-развивающая сред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 – внеурочная деятельн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 – партнерство(социальная среда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группа – медиа пространств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4000" y="291600"/>
            <a:ext cx="5032440" cy="616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торическое значение каждого русского человека измеряется его заслугами Родине, его человеческое достоинство – силой его патриотизма». </a:t>
            </a:r>
            <a:br>
              <a:rPr sz="3600"/>
            </a:b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 Г. Чернышевски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4034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2"/>
          <p:cNvSpPr/>
          <p:nvPr/>
        </p:nvSpPr>
        <p:spPr>
          <a:xfrm>
            <a:off x="0" y="981000"/>
            <a:ext cx="914400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 РФ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 29.12.2012 № 273‑ФЗ «Об образовании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 31.07.2020 № 304‑ФЗ «О внесении изменений в Федеральный закон „Об образовании в Российской Федерации“ по вопросам воспитания обучающихся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 РФ от 21.07.2020 № 474 «О национальных целях развития Россйиской Федерации на период до 2030 го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 РФ от 02.07.2021 № 400 «О стратегии национальной безопасности Российской Федерации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Правительства РФ от 29.05.2015 № 996 «Об утверждении Стратегии развития воспитания в Российской Федерации на период до 2025 го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Правительства РФ от 29.11.2020 № 2945‑Р «Об утверждении Плана мероприятий по реализации в 2021–2025 годах Стратегии развития воспитания в Российской Федерации на период до 2025 го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Правительства РФ от 29.11.2014 № 2403‑Р «Об утверждении основ государственной молодежной политики РФ на период до 2025 го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 19.05.1995 № 80‑ФЗ «Об увековечении Победы советского народа в Великой Отечественной войне 1941–1945 годов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 РФ от 14.01.1993 № 4292‑1 «Об увековечении памяти погибших при защите Отечеств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 13.03.1995 № 32‑ФЗ «О днях воинской славы и памятных датах России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проект «Патриотическое воспитание граждан Российской Федерации» национального проекта «Образование» с 2021 по 2024 год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патриотического воспитания граждан Российской Федерации (одобрена на заседании Правительственной комиссии по социальным вопросам военнослужащих, граждан, уволенных с военной службы, и членов их семей (прокол № 2 (12)‑П4 от 21.05.2003)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 РФ от 24.07.2000 № 551 «О военно‑патриотических молодежных и детских объединениях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 25.07.2002 № 114‑ФЗ «О противодействии экстремистской деятельности»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Красноярского края "О патриотическом воспитании" (17 июня 202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1763640" y="549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рмативно-правовая баз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онятие патриотизм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9280" y="119808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привязанности к тем местам, где человек родился и вырос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ительное отношение к языку своего наро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б интересах Родин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долга перед Родиной, отстаивание её чести и достоинства, свободы и независим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дость за социальные  и культурные достижения  своей стран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дость за своё Отечество, за символы государства, за свой наро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ительное отношение к историческому прошлому своего народа, его обычаям и традиция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за судьбу Родины и своего народа, их будуще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Основные направления в системе патриотического воспитания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ко-краеведческо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о-патриотическо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-патриотическо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патриотическо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ко-патриотическо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о-патриотическо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уховно-нравственное воспитание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ознание учащимися в процессе патриотического воспитания высших ценностей, идеалов и ориентиров, социально значимых процессов и явлений реальной жизни, способность руководствоваться ими в качестве определяющих принципов, позиций в прак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Историко-краеведческое воспитание 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ероприятий, направленных на познание историко-культурных корней, осознание неповторимости Отечества, его судьбы, неразрывности с ней, формирование гордости за сопричастность к деяниям предков и современников и исторической ответственности за происходящее в обществ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Гражданско-патриотическое воспитание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ует через систему мероприятий на формирование правовой культуры и законопослушности, навыков оценки политических и правовых процессов в обществе и государстве, гражданской позиции, постоянной готовности к служению своему народу и выполнению конституционного долг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оенно-патриотическое воспитание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о на формирование у молодёжи высокого патриотического сознания, идей служения Отечеству, способности к его вооруженной защите, изучение русской военной истории, воинских традиц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0:30:49Z</dcterms:created>
  <dc:creator>Flura</dc:creator>
  <dc:description/>
  <dc:language>en-US</dc:language>
  <cp:lastModifiedBy>Дом</cp:lastModifiedBy>
  <dcterms:modified xsi:type="dcterms:W3CDTF">2022-12-18T11:05:44Z</dcterms:modified>
  <cp:revision>20</cp:revision>
  <dc:subject/>
  <dc:title>Патриотическое воспитание</dc:title>
</cp:coreProperties>
</file>